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9C3-E75C-4DE0-B935-7774492B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540-087A-4A4A-BE5A-7EDE708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4EB-3E11-453C-8488-BE13F0D6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D8F4-02C6-470A-A878-91CD285F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E8F-7D7D-46BA-9B43-31B64FB2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294-70D4-44C4-AD6E-EF92E3F8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B1-9264-456B-BB3E-2CB57B10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F80-99D1-4AD7-B3CB-AB8A323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E34-0E62-4D7F-9781-8CDC0735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4AA-5084-4752-A531-ADE7755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4FA-8DE7-4EE4-8313-88DABF3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E4A-6548-4B19-ACCF-F3A8C78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911E-2726-4FE0-8466-E3B26E06E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edia1.shmoop.com/media/images/original/roosevelt-rough-rid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panish-Americ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10080" y="121932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. 1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ba is…well…almost f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latt Amend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treaties with nations who could dominat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llow U.S navy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trade debts low to avoid confl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.S allowed to intervene to support Cuban independ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uba finally repealed it in 193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tle of Manila B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Forces in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ban Rebellion Beg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pen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se M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ublic of 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68—Cuba launched rebellion for independence from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ba became economically tied with the United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95—Cuba launches another rebellion after economy t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cessfully take Eastern Cuba and declared it independent of Sp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 Supports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llow jour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al Wey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ncentration ca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States became convinced to be involved by sensationalist news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in sent 200,000 troops and even had Cuban rebels put into holding camps so that they would not aid or continue the rebell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ls for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la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William McKin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member the Main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ingo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bans rioted in protest of remaining a Spanish col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McKinley sent the US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protect American living in Hav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xploded and McKinley was pressured to go to war with Sp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ain declared war on U.S. 1898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ttle of Manila B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ore George Dew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ila Bay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ific Oc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early May 1898, an American naval squadron, led by Commodore George Dewey, destroyed the Spanish fleet in Manila 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.S. hoped to keep Spain from sending ships to help in Cu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Forces in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48320" y="1600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ea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648320" y="3886200"/>
            <a:ext cx="4038480" cy="2209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gh R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odore 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ttle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.S. landed troops in Cuba near where the Spanish were protecting their ships. American troops attacked and took a village near Santiago. The Spanish retreated and their ships were destroyed by U.S. warshi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…what just happened?...in a nutshell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ba wanted independence from Sp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gets invol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ba is 90 miles from Flor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ed European powers out of Western Hemi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ship, th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Mai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explodes—blamed on Spain—U.S and Spain now at w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anish colony, the Philippines, is taken by the U.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.S enters Cuba, battles ensue, Spain retreats from Cub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nnexation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1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lbert Beveridge, why is annexation of the Philippines 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no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urse of a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William Jennings Bryan’s two main criticisms of imperial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155520" y="-1943280"/>
            <a:ext cx="59151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fbcdn-profile-a.akamaihd.net/hprofile-ak-xaf1/t1.0-1/c122.38.475.475/s160x160/198072_102196253199508_7277457_n.jpg"/>
          <p:cNvPicPr/>
          <p:nvPr/>
        </p:nvPicPr>
        <p:blipFill>
          <a:blip r:embed="rId2"/>
          <a:stretch/>
        </p:blipFill>
        <p:spPr>
          <a:xfrm>
            <a:off x="2362320" y="1371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pbs.org/godinamerica/art/pwilliam-jennings-bryan.jpg"/>
          <p:cNvPicPr/>
          <p:nvPr/>
        </p:nvPicPr>
        <p:blipFill>
          <a:blip r:embed="rId3"/>
          <a:stretch/>
        </p:blipFill>
        <p:spPr>
          <a:xfrm>
            <a:off x="4952880" y="1371600"/>
            <a:ext cx="1879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media1.shmoop.com/media/images/original/roosevelt-rough-rider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y of Paris 189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icially ended the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ba granted indepen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 gained Puerto Rico and Gu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.S paid $20 million for the Philippi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kahimyang.info/resources/cambon-sign-treaty-of-paris.jpg"/>
          <p:cNvPicPr/>
          <p:nvPr/>
        </p:nvPicPr>
        <p:blipFill>
          <a:blip r:embed="rId2"/>
          <a:stretch/>
        </p:blipFill>
        <p:spPr>
          <a:xfrm>
            <a:off x="2514600" y="4038480"/>
            <a:ext cx="42926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0:25:58Z</dcterms:created>
  <dc:creator>loftonm</dc:creator>
  <dc:description/>
  <dc:language>en-US</dc:language>
  <cp:lastModifiedBy>Grace</cp:lastModifiedBy>
  <dcterms:modified xsi:type="dcterms:W3CDTF">2015-10-25T02:49:41Z</dcterms:modified>
  <cp:revision>72</cp:revision>
  <dc:subject/>
  <dc:title>The Spanish-American War</dc:title>
</cp:coreProperties>
</file>